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AFC-5BA6-43EF-9918-B6063B50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FD0-30B1-4D9F-93D8-2127DC14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EB6-E49B-4A79-873C-988AAD30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FB5-CB29-449F-A787-A865FCEC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D54-14E5-4020-92BA-E9C8268E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4F3-49E3-47A4-A5B7-00E3491D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211-71D1-479E-A6AC-2B2189D6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473-385A-45F1-86DC-F0BF40EB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99F-E678-4F2E-80F3-1AAF7971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79D-76EE-4B91-BDC5-99D6699E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B1B-61D4-4FFE-B917-1D03401F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6AE-A191-4563-8A64-95352382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E3AA-127B-49A2-BF6C-97580C356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gnificant S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rah Bea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fluencing My Particular Field of Teach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y area of specialization (general music/vocal/choir) I am well-suited and willing to contribute to its need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for student input and interest to drive decision-making in selecting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with other teachers to get a feel for interdisciplinary connections that can be made during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ying connected to fellow music educators and professionals to provide current, up-to-date, relevant topics and learning opportunities to my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m able to exert influence upon my professional peers and their idea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and providing feedback (i.e. through professional networking, through conversation within my departmen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lating My Work to Music Education at Larg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lationship between my plans and music education at large 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spiration and continual goal to provide relevant, thought-provoking, current opportunities to students (that deal with music in today's socie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ultivation of dispo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ideas will contribute to the profession and the students it serve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and cultivating real-world musical experiences and interactions with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musical activities that highlight current innovations (such as technology) and rely on musical practices that are relevant in today's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286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ies but good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191120" y="2514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63868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ging a Focus for this Semes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I may want to ask myself in the proces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ve I been doing that has been successful and meaningful to studen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an I do to improve the current practices I have in plac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there anything that I need to eliminate due to irrelevancy or redunda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can I synthesize and form a marriage between my "oldies but goodies" and new idea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goals, ambitions, and aspirations I would like to adopt during this semester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students to indicate topics of interest they would like to pursue (and putting them into practice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ing a curriculum that is not only comprehensive, but also leaves room for growth in ways that I could not have predicted (striving for "optimal ambiguity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weed out topics, activities, and/or practices that are irrelevant or redundant and need discar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795760" cy="419112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6"/>
          <p:cNvCxnSpPr/>
          <p:nvPr/>
        </p:nvCxnSpPr>
        <p:spPr>
          <a:xfrm>
            <a:off x="3505320" y="419112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7"/>
          <p:cNvSpPr/>
          <p:nvPr/>
        </p:nvSpPr>
        <p:spPr>
          <a:xfrm>
            <a:off x="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great id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91320" y="6172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ll never do that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biographical Reflection as a Learn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believe, to some degree, that teachers do incorporate they ways in which they were taught into their own teaching models. Things that affected me as a student includ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liked and enjoyed/wanted to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wore I would never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s/concepts/topics of study (either enjoyable or un-enjoy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 was taught were "important" things students should know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27432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ing on my own experience as a student, I am able to use my experi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as a source of insight by reflecting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aw/experienced that were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creative and made students 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did no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either relevant/irrelevant to both students and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"real world" at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sured Values as a Teach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iefs and practices that remain central to my curricular thinking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s of excellence (excellence as a way of thinking/as an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 of enrichment (teacher providing opportunities for student enrichment through the units of study/curricul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sion (fostering an atmosphere wher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udents feel welcome and their opinions/ideas val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cts of my prior teaching I will likely perpetuate, maintain, and deepen as I return to the classro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ntain my expectation of excell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rve the important of my performing ensembles (but deepen and shift thei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ere the focus becomes collaboration and teamwork, rather than the actual performance itsel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epen the aspect of inquiry within music activities (use more questions to direct student learning, curiosity, and explo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esh Perspectives and New Ide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as gathered from both my undergraduate and graduate study I use in my teach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oncept of learning units/spreading learning out over an extended period of time (and revisiting concepts to build new knowled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part of culture (both past and pres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ing ensemble importance (specifically for me: choru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deas that I have incorporated into my thinking about teaching and lear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"Curriculum of Questions" where inquiry (both student- and teacher-centered) serves as the driving force to discover core musical concepts and ideas within the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comprehensive whole (implementing ALL the National/State Standards v. focusing on your "favorite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ok Activities at the beginning of projects/units (to inspire motivation, interest, and a "need-to-know"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90720" y="1312920"/>
            <a:ext cx="716256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"Disposal Site"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es, strategies, and beliefs I no longer see fitting for my newly acquired ideas which I feel are ready to be discarded and left behi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 songs for concerts as students sit in their seats and are unengaged with the learning process (they aren't given the opportunity to take ownership of what they ar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ew of the teacher as the only fount of 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as a "dictato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dea that students are incapable of directing their ow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ly teacher-led and teacher-controlled activities (i.e. allowing students to take ownership and giving them a chance to le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23:10:50Z</dcterms:created>
  <dc:creator>Sarah Beasley</dc:creator>
  <dc:description/>
  <dc:language>en-US</dc:language>
  <cp:lastModifiedBy>Sarah Beasley</cp:lastModifiedBy>
  <dcterms:modified xsi:type="dcterms:W3CDTF">2010-07-13T14:04:18Z</dcterms:modified>
  <cp:revision>9</cp:revision>
  <dc:subject/>
  <dc:title>The Significant Seven</dc:title>
</cp:coreProperties>
</file>